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BB0-13B7-4737-9BA0-069A6D3C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A0B-46CC-49FB-9040-4D412055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167-7AF9-449B-90DA-353504A4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883-6505-4A2A-9AAE-9B4D7BD0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3819-F58C-4786-B40F-9328FE79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F38A-C43C-4FA6-BC0C-1F3314B3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4E84-84E0-41FE-900B-A8B0B4AC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4C1B-3729-4E69-82B9-AD91A6AD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FB1A-BB88-460A-B550-CD58E860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B9E5-6D21-4ADF-918E-33B01ABF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058A-20D9-4488-8D30-DBB93709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351-E930-4389-A317-42680B50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3181-6AE3-4254-8749-BD0B6EE0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C111-5504-4F87-B78B-323823BC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0447-6DD3-49CC-865E-6A3ACA64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F9AC-4457-444F-82B2-5E92B0D6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DADE-DD89-40D4-B5C7-BF81C258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9C7-CB92-4301-9A40-B5054041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21B-A59D-45F7-A46B-7FCB3743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136-2C8B-4C8D-8E76-22398D38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5E3-A445-49CD-A2F9-9DFDD4E3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CD0-3F08-422B-80DB-48D3D925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714-C626-4724-B447-25531094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02F-511E-4EED-B0A8-0D848CDA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B1AF-E475-448A-979E-D1B77B965B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6B9F-6A4F-4132-88AE-6E819879E2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ectorterciarioven.galeon.com/clasificacion.pn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Verdana"/>
              </a:rPr>
              <a:t>EL SECTOR TERCIARI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28880" y="2043000"/>
            <a:ext cx="52862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Clasificación del transport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 transporte se va a clasificar dependiendo del ambiente donde se desarrolle. Donde estos pueden s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3645000"/>
            <a:ext cx="60498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736560"/>
            <a:ext cx="7129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Verdana"/>
              </a:rPr>
              <a:t>Turismo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1600200"/>
            <a:ext cx="7416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Efectos del Turism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fectos positivos del turismo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Ingresos elevados para un paí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Crear muchos puestos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Permite el contacto entre culturas y facilita el aprendizaje de nuevas lengu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Factores negativos del turis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Provoca grandes impactos medioambient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Tiene un carácter estacional, ya que hay temporadas no turísticas por causas de crisis económicas, guerras y terror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Contribuye al aumento de pre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on todas aquellas actividades que constituyen las vías de intercambio, presentación, continuación de productos, y la prestación de servicios dentro de un país, las cuales se ubican en la ultima posición de los sectores pero no por ello es el menos importante. 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Característic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741708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 actividades del sector terciario de un país están constituidas primordialmente por el comercio, los servicios, el transporte y la economía informal, en donde va a depender del desarrollo de los mismo el auge económico del país, gracias a la producción de bie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961920"/>
            <a:ext cx="770580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El Comerc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2060280"/>
            <a:ext cx="40384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 una actividad de intercambio que se pone en relación a la producción y el consum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40384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Tipos de Comerc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ntern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Es aquel intercambio que se realiza en el interior del país, es decir, dentro de una misma localida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Externo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Es aquel intercambio que se realiza entre dos o más países diferentes; donde estas están dirigidas por las exportaciones que realiza el paí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s Servici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luyen una diversidad de actividades desempeñadas por un crecido numero de funcionarios que trabajan para el Estado (servicios públicos) o para empresas particulares (servicios privados).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tre los servicios pueden señalarse: la electricidad, agua, aseo, teléfono entre ot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75360" y="1773360"/>
            <a:ext cx="3274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Los Transpor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s el medio de traslado de personas o bienes desde un lugar hasta otr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Tipos de Transpor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nternos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xternos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2808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5:31:09Z</dcterms:created>
  <dc:creator>Lorena</dc:creator>
  <dc:description/>
  <dc:language>en-US</dc:language>
  <cp:lastModifiedBy>Lorena</cp:lastModifiedBy>
  <dcterms:modified xsi:type="dcterms:W3CDTF">2012-03-09T16:41:50Z</dcterms:modified>
  <cp:revision>2</cp:revision>
  <dc:subject/>
  <dc:title>EL SECTOR TERCIARIO</dc:title>
</cp:coreProperties>
</file>